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218A-7A16-48EC-BF66-55479287D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2082-71FD-46F4-99A8-4939EAD7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2B25D-EE89-455E-94DB-2A1AAA11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7BAF4-DB8A-4AE5-8B4C-2ACA060C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328A9E-6BEF-45C9-884E-FA9B5EB5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7A273-F1FC-4324-B986-4BFCC33E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185C64-DA79-4FD3-B0A2-611D4993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7A280-37A1-48A3-91F6-6ED641DF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A7204-5C31-4107-B2E9-B28ACB42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AFEE8-F75B-4925-BFC3-F198D32A1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F6223-5C59-45E3-9A00-0E3B16F52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309C-02CD-447F-9259-FFB0F4125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4206-61FC-4ED7-BDDF-74E1F0C1F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925A-3136-4F81-B9AC-9746F5FF2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9241-1B5A-4DA6-A9AB-1B50C76C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4D39-13EB-412A-8B63-1CB77CD4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A898-FB65-440C-8984-E985A99B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3CB1-37F6-4DA1-A606-FD1FB6EC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C39E-A63F-4513-A7D6-7A97F2BF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57B4-DC9B-4765-B2C2-1664A567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AC11-BEB8-4FBC-AF1F-DCFB3C72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56CC-9CE0-4E8B-B3D8-1B095ED7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DF14-2C98-46BB-BAF0-B33CB8A7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F89F-3968-461D-BB55-F0ED9473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46A3-E8B9-42E3-8478-B90CF32B1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ECE6-3A46-4487-8270-BB49F8B0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6C309-B0B8-4B71-B602-00855847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C2232-AD3E-453C-BFAD-399FC6ED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F2B2F-9FFC-4334-AD3F-E32461A5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8596D-3A67-4E81-A1AD-1462D983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42600-FD7B-469A-8EF8-D81416B6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A601-4A25-4A46-9236-5F71A167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96F16-F4D3-4502-B35B-2DD04F58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5EF7C-2BF3-4A0A-9462-E0BE73B7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5B522-1662-49D3-B078-1205927D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ABB33-5670-471D-8016-562D324B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77149-CA6A-4BFF-BFF7-EC2894B7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1027C-0B8C-4861-A977-B765C086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7DA8D-FD6B-4179-8426-35CEC2A2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F069A-0710-42FB-8BF0-0DBF8F6F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EAC88-F21A-4C91-B23D-9A51833D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97CA6-5C6B-4EA2-AC5A-A7F0601D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1D32-CCE9-4B95-86CA-B1E5DA40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D3286-2C59-41B6-A614-684BF86C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54AF1-5433-4BC4-9E1D-4056296B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DD5EC-26E1-4790-9818-285ED7EE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E0E3A-EA00-4C08-8044-452A062F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05AB7-7455-4179-8A8B-908D94E4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79485-49E7-440B-BA07-1C53F152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008A7-BC8F-40C4-9AAA-60012AEA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2D6A7-6EF2-41A0-8CE6-78522A623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A375E-C89D-45C1-B4B2-A84346B6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E6180-4A17-41BF-B5D8-05431276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318A-DC81-4A87-9258-731B7E0D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18F0A-D386-4606-8454-7CE955FB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2DCD9-CB9E-4FE6-920B-BFFAFDCF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01054-2B79-4DD0-B0B9-D59084D4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69ABF-445C-4086-A4F2-2F82EFDE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89748-1566-483E-9D5A-C8DB9AD5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B3E89-99BE-4DD2-884C-01F9BFF8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48533-58EF-4A57-B3CD-D9547564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716A4-68DE-486A-8C0F-A352813C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B31C1-4C38-4829-9299-01A171DE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E8776-B240-44D5-AF50-5A8A08A4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D0DA-7D72-4851-BFBD-877D5289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F78BB-E007-4112-B8C4-BC5EFF082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B20AD-C1DF-4011-BFB9-A8740AFA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77E64-4FED-47B4-B0FD-48D52085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A2A10-B1DA-4722-8FC3-11BAD7C2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62262-75AF-45A4-A47C-1702F99B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A73A7-4358-468C-89CE-CEE5CA47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92A7D-DCBF-4522-8884-FAB92251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35C03-BDA0-4F16-8210-6C37D146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6C3BF-1A33-4516-8469-091135D7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F1D6D-8E01-481D-AD36-88BD4CF4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8628-0F1B-41A1-9060-5A762855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B5046-BAC3-4E99-879B-AEB99985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4E776-1755-4CD1-92F0-9AD83F00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7F174-3B25-4CC8-A8F6-769DB0CFD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E818E-5739-4FEF-93EC-2E8BEBAAE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75E42-77C6-447B-939E-A78AFC0D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2D806-5DF9-4C61-A9EE-6FAA14C5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A3B90-7C09-4870-A6DD-BAFC36DA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BBA48-CFC8-41DF-B680-F5ACFD3F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7B39D-0E6C-46A9-A851-A2FC5543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02475-1E69-4159-99B0-CE62F609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87A0-125D-416B-96D2-F01CE208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3993F-DAE3-4B27-B782-945D5762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E7264-E682-45A2-A6AF-F078D513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E7456-283F-46D9-BE58-93428BC3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078A0-5E08-4833-A0ED-8FB870D8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1243C-7E81-4160-A151-8C88388D9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5284F-3ECA-4830-9E55-850EA260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37EC4-CC76-49ED-AE5E-D95CDCBC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91689-E3DD-43FB-AAF8-5488F8F8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E77B7-6BEB-41F0-8B98-3A2BF685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BAFB3-F408-4838-9F97-22F0D05F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5E42-CE50-4860-87B1-2B6423E8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AB40B-5A63-4ECE-9FB3-21565033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F7508-1065-4217-B5D6-7D18EFC3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997D4-AC56-463F-ADDD-E3C51A97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5D395-A6DD-4167-90D1-1D6132D7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B0DD0-C6B1-4A8D-BDEC-7BCD89CD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3BC4C-9B63-43B1-83EF-AEA11994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512F4-CFB1-4099-BD07-D3C9342FD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08DFE-04DB-4826-AC5B-BF0ED7969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420C2-6779-4A6D-971E-D342F154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2C60D-BACD-40C4-9487-08F34CDD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A1A5-99D6-4C3C-AD05-3BC42264E759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606C-07F2-495A-9C96-9BF3D2C60849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7238880" y="6356520"/>
            <a:ext cx="144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0E94-A404-48AB-84A7-ED74A52339F2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70B3-7191-45BB-8C6C-6DD5B1FF94A5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E454-EF14-48EA-B482-EFE411847E2A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57D4-CF23-4BA7-AB93-A4A191FAF880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D2DC-2053-48DF-B112-BA0AD7926672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BF12-325E-4741-A924-28A6808C8B6C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775C-434B-4C81-9317-61CBD466DF1D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716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900" spc="-1" strike="noStrike">
                <a:solidFill>
                  <a:srgbClr val="000000"/>
                </a:solidFill>
                <a:latin typeface="Calisto MT"/>
              </a:rPr>
              <a:t>Greek Drama</a:t>
            </a:r>
            <a:endParaRPr b="0" lang="en-US" sz="79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Greek Tragedy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Nearly all surviving tragedies are based on myth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haracter</a:t>
            </a:r>
            <a:r>
              <a:rPr b="0" lang="ja-JP" sz="2200" spc="-1" strike="noStrike">
                <a:solidFill>
                  <a:srgbClr val="595959"/>
                </a:solidFill>
                <a:latin typeface="Arial"/>
                <a:ea typeface="ＭＳ 明朝"/>
              </a:rPr>
              <a:t>’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 struggle against hostile forces ended in defeat and ultimately in death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A series of dramatic episodes separated by choral odes (mini-songs)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Episodes performed by a few actors - never more than 3 on stage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Greek Drama (continued)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Wore masks to indicate the nature of the characters played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Men played women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ＭＳ 明朝"/>
              </a:rPr>
              <a:t>’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 role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ame actor appeared in several parts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Of the hundreds of Greek tragedies written, fewer than 35 survive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250920" y="189000"/>
            <a:ext cx="864216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Greek Trage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Three Greek Tragedians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eschylu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his are the oldest surviving plays - began competing in 449 at Dionysus Theatre. Most of his plays were part of trilog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Sophocles: (496-406 B.C.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n 24 contests, never lower than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;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lieved to have introduced th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ctor; fixed the chorus at 15 (had been 50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Euripides (480-406 B.C.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very popular in later Greek times, little appreciated during his life sometimes known as "the father of melodrama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Three Playwright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Aeschylus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7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Most famous for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Oresteia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6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Introduced concept of second actor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6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panded possibilities for plot 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98" name="Picture 4" descr="http://rds.yahoo.com/S=96062883/K=Aeschylus/v=2/SID=e/l=IVS/SIG=128ne0vou/EXP=1137596459/*-http%3A//www2.smumn.edu/facpages/~jtadie/aeschylus.jpg"/>
          <p:cNvPicPr/>
          <p:nvPr/>
        </p:nvPicPr>
        <p:blipFill>
          <a:blip r:embed="rId1"/>
          <a:stretch/>
        </p:blipFill>
        <p:spPr>
          <a:xfrm>
            <a:off x="6400800" y="2666880"/>
            <a:ext cx="194940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Sophocle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Innovation of the third actor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Most famous for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Oedipus Rex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401" name="Picture 6" descr="http://rds.yahoo.com/S=96062883/K=Sophocles/v=2/SID=e/l=IVS/SIG=13ah5bc6o/EXP=1137596577/*-http%3A//www.luc.edu/depts/history/dennis/Visual_Arts/101Images/07_5.05-97_Sophocles.jpg"/>
          <p:cNvPicPr/>
          <p:nvPr/>
        </p:nvPicPr>
        <p:blipFill>
          <a:blip r:embed="rId1"/>
          <a:stretch/>
        </p:blipFill>
        <p:spPr>
          <a:xfrm>
            <a:off x="5715000" y="3733920"/>
            <a:ext cx="27147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Euripide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reated the ultimate form of drama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39480" indent="-3394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ar more naturalistic or human approach in his work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39480" indent="-3394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howed interest in psychology through portraits of women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39480" indent="-3394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Medea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 is most famous work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78600" indent="-3330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Describes how a mother kills her children to gain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78600" indent="-3330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revenge against their father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39480" indent="-3394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404" name="Picture 8" descr="http://rds.yahoo.com/S=96062883/K=Euripides/v=2/SID=e/l=IVS/SIG=1394v3s8r/EXP=1137596619/*-http%3A//images.encarta.msn.com/xrefmedia/sharemed/targets/images/pho/t070/T070183a.jpg"/>
          <p:cNvPicPr/>
          <p:nvPr/>
        </p:nvPicPr>
        <p:blipFill>
          <a:blip r:embed="rId1"/>
          <a:stretch/>
        </p:blipFill>
        <p:spPr>
          <a:xfrm>
            <a:off x="7010280" y="4419720"/>
            <a:ext cx="1737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1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6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1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6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9" dur="5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2" dur="50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Euripides (continued)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838080" y="281916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Medea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 is most famous work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78600" indent="-333000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Describes how a mother kills her children to gain revenge against their father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407" name="Picture 4" descr="C:\My Documents\My Pictures\eurip.jpg"/>
          <p:cNvPicPr/>
          <p:nvPr/>
        </p:nvPicPr>
        <p:blipFill>
          <a:blip r:embed="rId1"/>
          <a:stretch/>
        </p:blipFill>
        <p:spPr>
          <a:xfrm>
            <a:off x="3048120" y="1600200"/>
            <a:ext cx="27432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" dur="5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8" dur="5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Calisto MT"/>
              </a:rPr>
              <a:t>Drama was born in ancient Greece!</a:t>
            </a:r>
            <a:endParaRPr b="0" lang="en-US" sz="4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600s B.C. - Greeks were giving choral performances of dancing and singing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Performances at festivals honoring Dionysu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Later they held drama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    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ontests to honor him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74" name="Picture 6" descr="C:\My Documents\My Pictures\dion1i.jpg"/>
          <p:cNvPicPr/>
          <p:nvPr/>
        </p:nvPicPr>
        <p:blipFill>
          <a:blip r:embed="rId1"/>
          <a:stretch/>
        </p:blipFill>
        <p:spPr>
          <a:xfrm>
            <a:off x="6629400" y="4114800"/>
            <a:ext cx="1566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7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32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Thespis (534 B. C.)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rst “actor”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Introduced art of acting a part on stage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dramatic impersonation of another character 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Uncertain whether he was a playwright, an actor, or a pries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595959"/>
                </a:solidFill>
                <a:latin typeface="Arial"/>
                <a:ea typeface="ＭＳ 明朝"/>
              </a:rPr>
              <a:t>“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espian</a:t>
            </a:r>
            <a:r>
              <a:rPr b="0" lang="ja-JP" sz="2200" spc="-1" strike="noStrike">
                <a:solidFill>
                  <a:srgbClr val="595959"/>
                </a:solidFill>
                <a:latin typeface="Arial"/>
                <a:ea typeface="ＭＳ 明朝"/>
              </a:rPr>
              <a:t>”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 term comes from his name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Description of Greek Theater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ook place in large hillside amphitheater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held as many as 15,000 to 20,000 people!!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Players included a chorus and their leader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Lines were chanted rather than spoken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horus performed in an </a:t>
            </a:r>
            <a:r>
              <a:rPr b="0" lang="ja-JP" sz="2200" spc="-1" strike="noStrike">
                <a:solidFill>
                  <a:srgbClr val="595959"/>
                </a:solidFill>
                <a:latin typeface="Arial"/>
                <a:ea typeface="ＭＳ 明朝"/>
              </a:rPr>
              <a:t>“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orchestra</a:t>
            </a:r>
            <a:r>
              <a:rPr b="0" lang="ja-JP" sz="2200" spc="-1" strike="noStrike">
                <a:solidFill>
                  <a:srgbClr val="595959"/>
                </a:solidFill>
                <a:latin typeface="Arial"/>
                <a:ea typeface="ＭＳ 明朝"/>
              </a:rPr>
              <a:t>”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, not on a raised platform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4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5"/>
          <p:cNvSpPr/>
          <p:nvPr/>
        </p:nvSpPr>
        <p:spPr>
          <a:xfrm>
            <a:off x="1660680" y="2293920"/>
            <a:ext cx="438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Greek Theater (continued)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Masks used to represent character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High-soled boots worn to add height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Both of these limited movemen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82" name="Picture 9" descr="C:\My Documents\My Pictures\masks.gif"/>
          <p:cNvPicPr/>
          <p:nvPr/>
        </p:nvPicPr>
        <p:blipFill>
          <a:blip r:embed="rId1"/>
          <a:stretch/>
        </p:blipFill>
        <p:spPr>
          <a:xfrm>
            <a:off x="2057400" y="4038480"/>
            <a:ext cx="518148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Greek Theater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384" name="Picture 4" descr="C:\My Documents\My Pictures\m69f.jpg"/>
          <p:cNvPicPr/>
          <p:nvPr/>
        </p:nvPicPr>
        <p:blipFill>
          <a:blip r:embed="rId1"/>
          <a:stretch/>
        </p:blipFill>
        <p:spPr>
          <a:xfrm>
            <a:off x="1905120" y="2666880"/>
            <a:ext cx="541152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Most Important Era (400s B.C.)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959"/>
                </a:solidFill>
                <a:latin typeface="Calisto MT"/>
              </a:rPr>
              <a:t>Tragedies performed as part of a civic celebration called the City Dionysia</a:t>
            </a:r>
            <a:endParaRPr b="0" lang="en-US" sz="3400" spc="-1" strike="noStrike">
              <a:solidFill>
                <a:srgbClr val="595959"/>
              </a:solidFill>
              <a:latin typeface="Calisto MT"/>
            </a:endParaRPr>
          </a:p>
          <a:p>
            <a:pPr marL="329040" indent="-32904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959"/>
                </a:solidFill>
                <a:latin typeface="Calisto MT"/>
              </a:rPr>
              <a:t>Festival lasted several days</a:t>
            </a:r>
            <a:endParaRPr b="0" lang="en-US" sz="3400" spc="-1" strike="noStrike">
              <a:solidFill>
                <a:srgbClr val="595959"/>
              </a:solidFill>
              <a:latin typeface="Calisto MT"/>
            </a:endParaRPr>
          </a:p>
          <a:p>
            <a:pPr marL="329040" indent="-32904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959"/>
                </a:solidFill>
                <a:latin typeface="Calisto MT"/>
              </a:rPr>
              <a:t>Prizes given for best tragedy, comedy, acting, and choral singing</a:t>
            </a:r>
            <a:endParaRPr b="0" lang="en-US" sz="34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6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8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0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4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0" lang="en-US" sz="4300" spc="-1" strike="noStrike">
                <a:solidFill>
                  <a:srgbClr val="ffffff"/>
                </a:solidFill>
                <a:latin typeface="Calisto MT"/>
              </a:rPr>
              <a:t>Theater of Dionysus</a:t>
            </a:r>
            <a:endParaRPr b="0" lang="en-US" sz="43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959"/>
                </a:solidFill>
                <a:latin typeface="Calisto MT"/>
              </a:rPr>
              <a:t>Located on slope below the Acropolis in Athens</a:t>
            </a:r>
            <a:endParaRPr b="0" lang="en-US" sz="3400" spc="-1" strike="noStrike">
              <a:solidFill>
                <a:srgbClr val="595959"/>
              </a:solidFill>
              <a:latin typeface="Calisto MT"/>
            </a:endParaRPr>
          </a:p>
          <a:p>
            <a:pPr marL="335880" indent="-3358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959"/>
                </a:solidFill>
                <a:latin typeface="Calisto MT"/>
              </a:rPr>
              <a:t>Seated 14,000 +</a:t>
            </a:r>
            <a:endParaRPr b="0" lang="en-US" sz="3400" spc="-1" strike="noStrike">
              <a:solidFill>
                <a:srgbClr val="595959"/>
              </a:solidFill>
              <a:latin typeface="Calisto MT"/>
            </a:endParaRPr>
          </a:p>
          <a:p>
            <a:pPr marL="335880" indent="-3358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959"/>
                </a:solidFill>
                <a:latin typeface="Calisto MT"/>
              </a:rPr>
              <a:t>Circular acting area called orchestra</a:t>
            </a:r>
            <a:endParaRPr b="0" lang="en-US" sz="3400" spc="-1" strike="noStrike">
              <a:solidFill>
                <a:srgbClr val="595959"/>
              </a:solidFill>
              <a:latin typeface="Calisto MT"/>
            </a:endParaRPr>
          </a:p>
          <a:p>
            <a:pPr marL="335880" indent="-3358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959"/>
                </a:solidFill>
                <a:latin typeface="Calisto MT"/>
              </a:rPr>
              <a:t>Skene (stage house)</a:t>
            </a:r>
            <a:endParaRPr b="0" lang="en-US" sz="34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8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5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he Physical Structure of the Greek Theater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390" name="Picture 5" descr="greek theater"/>
          <p:cNvPicPr/>
          <p:nvPr/>
        </p:nvPicPr>
        <p:blipFill>
          <a:blip r:embed="rId1"/>
          <a:stretch/>
        </p:blipFill>
        <p:spPr>
          <a:xfrm>
            <a:off x="1600200" y="1600200"/>
            <a:ext cx="515772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9T01:01:09Z</dcterms:created>
  <dc:creator>GUGEL</dc:creator>
  <dc:description/>
  <dc:language>en-US</dc:language>
  <cp:lastModifiedBy>Mary Burke</cp:lastModifiedBy>
  <dcterms:modified xsi:type="dcterms:W3CDTF">2014-03-31T04:04:17Z</dcterms:modified>
  <cp:revision>26</cp:revision>
  <dc:subject/>
  <dc:title>Greek Drama</dc:title>
</cp:coreProperties>
</file>