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1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9520-E40D-43D1-8C1F-03D2B6147F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F270F-579A-4F8E-B7C0-60B935542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D986AB3-2E44-4F6C-ADDB-5DFA7E5FE5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71F32B4-05C0-4A5F-A46A-B9FAC2C2D6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033FEEF-36FE-4140-A557-792571AE64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4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13702E1-6E31-4680-8D4C-3690982E0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6BDB163-3097-4876-911C-70EA3201BC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9BB8908-5E24-4FAF-9614-425765F9E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2106826-F35D-4DD8-B48A-662C5073E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C2D1CD7-D5E2-44E1-8E7B-D2764D522C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5C69E25-6B3C-4FE7-81BE-93BE6DC8C7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CF08E-7A65-4054-9E74-2C0A71B19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436EF-08B7-48CC-8C0F-41D83E414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A78AB-4E2C-4B97-9CBA-FBD4EF07EE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B92644-E403-44BA-93D2-4FF644A09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0894E-139F-4992-86A4-BC6DE2D2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588D30-33BC-4BA9-82B7-0DD15E7243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E3E41-C1D2-443E-882D-AE3FAF35D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AD3AE-46D4-47A3-B5A8-9C255C7DFC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C7535-5E02-4B66-9B1F-98243CE63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4AC7E-90BA-4BDB-98C4-ADBD20608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6CC0-3CCE-40DE-A117-1ED3CDB9C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EE72CD-CD58-4D7C-9C9C-A02C42A03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CA5D5-327D-452F-8970-43F6A7D431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5FEF7-E867-401B-A027-1B6212258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1F890-3885-411D-9130-0F6ED2A1C1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F2EA8A-F845-4101-9666-F9A5413C2A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D85388-695A-43B4-8209-41CF585CB6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638AFBC-75CE-4076-A561-A2CE9814F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ABCD08-0FC5-4C6A-8FA0-641D2DCD67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09FBD2-F733-4DBC-B261-67D3B4B6AB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61D24-543B-40A4-BB7C-5BA1FCB4C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155CC2-6600-4012-95E1-59698FAC0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3C9F13-4517-42D0-8842-9DB8BD656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DDEF69-30FD-4B73-8301-B5C884CF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301E17F-FE19-4373-908C-9659F4F1D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89A363-2091-4670-976B-B191AFBF4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420BD3-C919-4D5E-81EE-7562B4CE7C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A3068B-DB70-4E2F-913F-BE163D04C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86A696-E58D-458A-B781-E55833B94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FCB7F71-37A8-4CED-95C2-71555468BB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38B981-C3A9-4832-87F3-8A64129C58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40CA-6738-4478-A9C0-14E0DA7EA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A28D43-7BD0-40B0-9D23-51200AA614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6107E-CD77-4789-9F18-90722080F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E65FC1-41CC-4BAD-AD28-E119414B3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9C8BCD6-B3C5-4AAF-8E39-17C9045C2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02E3EC-5529-4050-9714-30E75F0D9D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1E4FE8-39AA-425A-A451-8154AC342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365D6C-AA6F-43AF-B839-EF71DE6EB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58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167BBD-7893-4FD2-91A5-9FFEE0B785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4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5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212A66-E4FB-4011-A309-55A0E0F967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7E0C30B-7104-467B-9C61-5375274CCB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04167-CBF0-4F1E-9A21-4428D8EAB2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060064-61E8-4EC6-8E0B-B90E8AB473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A706BB-6EF5-4018-8B2A-706936EEB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DB50A9-D430-4915-88B8-B07A866F2D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A1C02C7-17E2-459F-922F-CB385F27D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2F932C-C728-4CC7-83B7-DCD0DEFFC2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4E98AD-6672-4189-AE40-EC02ED5029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20A861-85B7-4B43-B6DB-0DDB8BFD4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F1451EC-2331-4562-A89C-1495777035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F0CC1B3-5DA8-41FF-8B9E-8402864099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AAE3E7A-4371-4769-AA7C-916E731FAD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FB176-C0A9-4D5E-94BC-E0B507375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3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4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5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6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BB2E3A-CC62-430D-9677-78FFEB36DC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E7C81CD-8F3C-4AFB-B76D-F1164D25F6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B2E8E2B-A5DD-4106-A8D7-A0996CA347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76A37C-75AB-46ED-A816-773AFED494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EEF818-569E-4199-BB19-F33AA33508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AE1E4BA-7DF3-4FDF-AC51-614D3285B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ABAD3-19F6-47A4-B72F-E708A9268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D93AA8F-4AB9-4D2A-8785-99BB5BD776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E84A83-B6F8-4203-8779-710B7CADF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2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8631AAE-5AC1-4771-95EB-4EAE024704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FBAAB-8A71-47E4-88E8-B22A42AAB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314218-4CFD-40E5-B40D-3909E52C3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F1FBF87-6290-4812-BA9C-A3478EE2E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6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7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5A5BC9F-EAED-410A-9A86-B85CF83A00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B15559-EA9E-4556-A141-3280EB8288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060ED00-A15B-4BEF-A67A-8A349DADB8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9D77260-DA7D-4577-8E10-6C35A173B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3AAA2E-BAF5-4E33-966B-5F19585333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109DE6F-28DB-4E58-B83D-8574EF61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DBF1B5-FDD2-4155-A8ED-F2218693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C551636-D618-4FD2-B0FC-950A41B66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BFAAD-29F0-40CA-B49E-CAF4815DB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693F96-A2D0-460E-855E-AB7DE63CB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36FEE7-A27C-49E7-8F7A-5294B641EB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FCDE0E-1AEC-4CF0-8FC4-961784101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8AF4F7-D881-482F-9635-46BF95E9F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6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7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88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065D2A-E7A0-48ED-A41F-5390E1B7AB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4E59375-F6D6-4F59-AED4-FE2B02814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D341CD-223F-4BC3-B8C2-0FC8DC9FC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8F473C-5C9F-4F5E-A701-9260047635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9C87B67-6731-459D-84B3-DC51BFDA4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A6D77D8-D350-413F-A3D2-CB7A92B61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0D0FD-C150-46B0-B164-5A7F05428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subTitle"/>
          </p:nvPr>
        </p:nvSpPr>
        <p:spPr>
          <a:xfrm>
            <a:off x="457200" y="3441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CD367C6-8777-413D-B8BF-84DE0A3590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629F2B-3EE3-414C-8A80-3194267449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09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0" name="PlaceHolder 4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0F83FA1-FB27-4105-AEC8-A4BC03DCE8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05F7D-E485-4046-9CF8-B006D6B3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739800" y="4476240"/>
            <a:ext cx="766296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856C10E-0CEF-4930-895A-7B8E18D408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4666320" y="27698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73980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666320" y="4476240"/>
            <a:ext cx="373932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FDC2A27-F467-43C5-B136-1C68C1E6CF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333072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5921280" y="27698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7" name="PlaceHolder 5"/>
          <p:cNvSpPr>
            <a:spLocks noGrp="1"/>
          </p:cNvSpPr>
          <p:nvPr>
            <p:ph/>
          </p:nvPr>
        </p:nvSpPr>
        <p:spPr>
          <a:xfrm>
            <a:off x="73980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8" name="PlaceHolder 6"/>
          <p:cNvSpPr>
            <a:spLocks noGrp="1"/>
          </p:cNvSpPr>
          <p:nvPr>
            <p:ph/>
          </p:nvPr>
        </p:nvSpPr>
        <p:spPr>
          <a:xfrm>
            <a:off x="333072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29" name="PlaceHolder 7"/>
          <p:cNvSpPr>
            <a:spLocks noGrp="1"/>
          </p:cNvSpPr>
          <p:nvPr>
            <p:ph/>
          </p:nvPr>
        </p:nvSpPr>
        <p:spPr>
          <a:xfrm>
            <a:off x="5921280" y="4476240"/>
            <a:ext cx="2467080" cy="155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5A64EF2-15A7-4587-B24A-38A58EA3A5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9F729FA-3816-4268-9F44-2C0D0AE7A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 type="subTitle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8B5F2C-1D0D-4A33-B610-D2FA6CF8C0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2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2237DB8-B571-4B37-9E6D-C38F0E90B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4D72E8-C3DF-4112-BD27-4EA79BA1DE3F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C9FF-5F2F-4991-8324-285E62B26680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Box 6"/>
          <p:cNvSpPr/>
          <p:nvPr/>
        </p:nvSpPr>
        <p:spPr>
          <a:xfrm>
            <a:off x="8373960" y="5803920"/>
            <a:ext cx="204840" cy="67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b606"/>
                </a:solidFill>
                <a:latin typeface="Wingdings"/>
                <a:ea typeface="Wingdings"/>
              </a:rPr>
              <a:t>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7238880" y="6356520"/>
            <a:ext cx="1446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C7AFB-40AA-4358-826F-4D5F7332ECAD}" type="slidenum">
              <a:rPr b="1" lang="en-US" sz="11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ftr" idx="11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sldNum" idx="12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183B3-AB3B-48B0-AEB4-CB7C80D7398B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 type="ftr" idx="14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5"/>
          <p:cNvSpPr>
            <a:spLocks noGrp="1"/>
          </p:cNvSpPr>
          <p:nvPr>
            <p:ph type="sldNum" idx="15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D90238-ADE3-4DDF-AE18-9CD90259B78A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 type="ftr" idx="17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 type="sldNum" idx="18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0C166-3DB3-46F5-9E67-03FFE8C6FE28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PlaceHolder 4"/>
          <p:cNvSpPr>
            <a:spLocks noGrp="1"/>
          </p:cNvSpPr>
          <p:nvPr>
            <p:ph type="ftr" idx="20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5"/>
          <p:cNvSpPr>
            <a:spLocks noGrp="1"/>
          </p:cNvSpPr>
          <p:nvPr>
            <p:ph type="sldNum" idx="21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5754DB-1709-4944-8AAA-8AFC1FC7ED91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4"/>
          <p:cNvSpPr>
            <a:spLocks noGrp="1"/>
          </p:cNvSpPr>
          <p:nvPr>
            <p:ph type="ftr" idx="23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5"/>
          <p:cNvSpPr>
            <a:spLocks noGrp="1"/>
          </p:cNvSpPr>
          <p:nvPr>
            <p:ph type="sldNum" idx="24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AB52FD-F166-4AA6-BFA2-D756F34296DB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Click to edit the title text format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lick to edit the outline text forma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56232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con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2" marL="84852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ird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3" marL="1124640" indent="-275760">
              <a:spcBef>
                <a:spcPts val="20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our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4" marL="1410840" indent="-28620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f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5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ix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6" marL="1410840" indent="-286200">
              <a:spcBef>
                <a:spcPts val="2001"/>
              </a:spcBef>
              <a:buClr>
                <a:srgbClr val="000000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eventh Outline Level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4"/>
          <p:cNvSpPr>
            <a:spLocks noGrp="1"/>
          </p:cNvSpPr>
          <p:nvPr>
            <p:ph type="ftr" idx="26"/>
          </p:nvPr>
        </p:nvSpPr>
        <p:spPr>
          <a:xfrm>
            <a:off x="578952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5"/>
          <p:cNvSpPr>
            <a:spLocks noGrp="1"/>
          </p:cNvSpPr>
          <p:nvPr>
            <p:ph type="sldNum" idx="27"/>
          </p:nvPr>
        </p:nvSpPr>
        <p:spPr>
          <a:xfrm>
            <a:off x="4305240" y="6356520"/>
            <a:ext cx="5335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100" spc="-1" strike="noStrike">
                <a:solidFill>
                  <a:srgbClr val="7f7f7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569CCD-5BE4-42D8-A8B1-7D1EA8F96617}" type="slidenum">
              <a:rPr b="1" lang="en-US" sz="1100" spc="-1" strike="noStrike">
                <a:solidFill>
                  <a:srgbClr val="7f7f7f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1371600" y="2895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900" spc="-1" strike="noStrike">
                <a:solidFill>
                  <a:srgbClr val="000000"/>
                </a:solidFill>
                <a:latin typeface="Calisto MT"/>
              </a:rPr>
              <a:t>Greek Drama</a:t>
            </a:r>
            <a:endParaRPr b="0" lang="en-US" sz="7900" spc="-1" strike="noStrike">
              <a:solidFill>
                <a:srgbClr val="ffffff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Tragedy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Nearly all surviving tragedies are based on myth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haracter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’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 struggle against hostile forces ended in defeat and ultimately in death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 series of dramatic episodes separated by choral odes (mini-songs)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Episodes performed by a few actors - never more than 3 on stage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7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3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39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3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nodeType="clickEffect" fill="hold">
                      <p:stCondLst>
                        <p:cond delay="indefinite"/>
                      </p:stCondLst>
                      <p:childTnLst>
                        <p:par>
                          <p:cTn id="2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39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Drama (continued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Wore masks to indicate the nature of the characters played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en played women</a:t>
            </a:r>
            <a:r>
              <a:rPr b="0" lang="en-US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’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 role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ame actor appeared in several parts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f the hundreds of Greek tragedies written, fewer than 35 survive.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0" fill="hold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0" fill="hold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0" fill="hold"/>
                                        <p:tgtEl>
                                          <p:spTgt spid="3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0" fill="hold"/>
                                        <p:tgtEl>
                                          <p:spTgt spid="3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Text Box 2"/>
          <p:cNvSpPr/>
          <p:nvPr/>
        </p:nvSpPr>
        <p:spPr>
          <a:xfrm>
            <a:off x="250920" y="189000"/>
            <a:ext cx="8642160" cy="558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Monotype Corsiva"/>
              </a:rPr>
              <a:t>Greek Tragedy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The Three Greek Tragedians: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Aeschylus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- his are the oldest surviving plays - began competing in 449 at Dionysus Theatre. Most of his plays were part of trilogi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2. Sophocles: (496-406 B.C.)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on 24 contests, never lower than 2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nd; 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lieved to have introduced the 3</a:t>
            </a:r>
            <a:r>
              <a:rPr b="0" lang="en-GB" sz="2400" spc="-1" strike="noStrike" baseline="30000">
                <a:solidFill>
                  <a:srgbClr val="000000"/>
                </a:solidFill>
                <a:latin typeface="Arial"/>
              </a:rPr>
              <a:t>rd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actor; fixed the chorus at 15 (had been 50)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3. Euripides (480-406 B.C.)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very popular in later Greek times, little appreciated during his life sometimes known as "the father of melodrama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nodeType="clickEffect" fill="hold">
                      <p:stCondLst>
                        <p:cond delay="indefinite"/>
                      </p:stCondLst>
                      <p:childTnLst>
                        <p:par>
                          <p:cTn id="2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hree Playwright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97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Aeschylus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7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Most famous for </a:t>
            </a:r>
            <a:r>
              <a:rPr b="0" i="1" lang="en-US" sz="2000" spc="-1" strike="noStrike">
                <a:solidFill>
                  <a:srgbClr val="595959"/>
                </a:solidFill>
                <a:latin typeface="Calisto MT"/>
              </a:rPr>
              <a:t>Oresteia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6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Introduced concept of second acto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lnSpc>
                <a:spcPct val="16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Expanded possibilities for plot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98" name="Picture 4" descr="http://rds.yahoo.com/S=96062883/K=Aeschylus/v=2/SID=e/l=IVS/SIG=128ne0vou/EXP=1137596459/*-http%3A//www2.smumn.edu/facpages/~jtadie/aeschylus.jpg"/>
          <p:cNvPicPr/>
          <p:nvPr/>
        </p:nvPicPr>
        <p:blipFill>
          <a:blip r:embed="rId1"/>
          <a:stretch/>
        </p:blipFill>
        <p:spPr>
          <a:xfrm>
            <a:off x="6400800" y="2666880"/>
            <a:ext cx="1949400" cy="2806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nodeType="clickEffect" fill="hold">
                      <p:stCondLst>
                        <p:cond delay="indefinite"/>
                      </p:stCondLst>
                      <p:childTnLst>
                        <p:par>
                          <p:cTn id="2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2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3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3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3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3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Sophocl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0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novation of the third acto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ost famous for </a:t>
            </a: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Oedipus Rex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1" name="Picture 6" descr="http://rds.yahoo.com/S=96062883/K=Sophocles/v=2/SID=e/l=IVS/SIG=13ah5bc6o/EXP=1137596577/*-http%3A//www.luc.edu/depts/history/dennis/Visual_Arts/101Images/07_5.05-97_Sophocles.jpg"/>
          <p:cNvPicPr/>
          <p:nvPr/>
        </p:nvPicPr>
        <p:blipFill>
          <a:blip r:embed="rId1"/>
          <a:stretch/>
        </p:blipFill>
        <p:spPr>
          <a:xfrm>
            <a:off x="5715000" y="3733920"/>
            <a:ext cx="2714760" cy="274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3" dur="500"/>
                                        <p:tgtEl>
                                          <p:spTgt spid="4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uripides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reated the ultimate form of drama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ar more naturalistic or human approach in his work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Showed interest in psychology through portraits of wome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Medea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is most famous work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scribes how a mother kills her children to gain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 </a:t>
            </a: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revenge against their fathe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4" name="Picture 8" descr="http://rds.yahoo.com/S=96062883/K=Euripides/v=2/SID=e/l=IVS/SIG=1394v3s8r/EXP=1137596619/*-http%3A//images.encarta.msn.com/xrefmedia/sharemed/targets/images/pho/t070/T070183a.jpg"/>
          <p:cNvPicPr/>
          <p:nvPr/>
        </p:nvPicPr>
        <p:blipFill>
          <a:blip r:embed="rId1"/>
          <a:stretch/>
        </p:blipFill>
        <p:spPr>
          <a:xfrm>
            <a:off x="7010280" y="4419720"/>
            <a:ext cx="173700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nodeType="clickEffect" fill="hold">
                      <p:stCondLst>
                        <p:cond delay="indefinite"/>
                      </p:stCondLst>
                      <p:childTnLst>
                        <p:par>
                          <p:cTn id="3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nodeType="clickEffect" fill="hold">
                      <p:stCondLst>
                        <p:cond delay="indefinite"/>
                      </p:stCondLst>
                      <p:childTnLst>
                        <p:par>
                          <p:cTn id="3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1" dur="500"/>
                                        <p:tgtEl>
                                          <p:spTgt spid="4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nodeType="clickEffect" fill="hold">
                      <p:stCondLst>
                        <p:cond delay="indefinite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56" dur="500"/>
                                        <p:tgtEl>
                                          <p:spTgt spid="4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1" dur="500"/>
                                        <p:tgtEl>
                                          <p:spTgt spid="4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nodeType="clickEffect" fill="hold">
                      <p:stCondLst>
                        <p:cond delay="indefinite"/>
                      </p:stCondLst>
                      <p:childTnLst>
                        <p:par>
                          <p:cTn id="3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6" dur="500"/>
                                        <p:tgtEl>
                                          <p:spTgt spid="4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69" dur="500"/>
                                        <p:tgtEl>
                                          <p:spTgt spid="4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72" dur="500"/>
                                        <p:tgtEl>
                                          <p:spTgt spid="4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Euripides (continued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406" name=""/>
          <p:cNvSpPr txBox="1"/>
          <p:nvPr/>
        </p:nvSpPr>
        <p:spPr>
          <a:xfrm>
            <a:off x="838080" y="281916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39480" indent="-3394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595959"/>
                </a:solidFill>
                <a:latin typeface="Calisto MT"/>
              </a:rPr>
              <a:t>Medea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is most famous work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78600" indent="-333000">
              <a:lnSpc>
                <a:spcPct val="90000"/>
              </a:lnSpc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escribes how a mother kills her children to gain revenge against their father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407" name="Picture 4" descr="C:\My Documents\My Pictures\eurip.jpg"/>
          <p:cNvPicPr/>
          <p:nvPr/>
        </p:nvPicPr>
        <p:blipFill>
          <a:blip r:embed="rId1"/>
          <a:stretch/>
        </p:blipFill>
        <p:spPr>
          <a:xfrm>
            <a:off x="3048120" y="1600200"/>
            <a:ext cx="27432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3" dur="indefinite" restart="never" nodeType="tmRoot">
          <p:childTnLst>
            <p:seq>
              <p:cTn id="374" dur="indefinite" nodeType="mainSeq">
                <p:childTnLst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1" nodeType="clickEffect" fill="hold">
                      <p:stCondLst>
                        <p:cond delay="indefinite"/>
                      </p:stCondLst>
                      <p:childTnLst>
                        <p:par>
                          <p:cTn id="3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5" dur="500"/>
                                        <p:tgtEl>
                                          <p:spTgt spid="4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88" dur="500"/>
                                        <p:tgtEl>
                                          <p:spTgt spid="4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100" spc="-1" strike="noStrike">
                <a:solidFill>
                  <a:srgbClr val="ffffff"/>
                </a:solidFill>
                <a:latin typeface="Calisto MT"/>
              </a:rPr>
              <a:t>Drama was born in ancient Greece!</a:t>
            </a:r>
            <a:endParaRPr b="0" lang="en-US" sz="41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600s B.C. - Greeks were giving choral performances of dancing and singing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erformances at festivals honoring Dionysu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Later they held drama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    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ontests to honor him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74" name="Picture 6" descr="C:\My Documents\My Pictures\dion1i.jpg"/>
          <p:cNvPicPr/>
          <p:nvPr/>
        </p:nvPicPr>
        <p:blipFill>
          <a:blip r:embed="rId1"/>
          <a:stretch/>
        </p:blipFill>
        <p:spPr>
          <a:xfrm>
            <a:off x="6629400" y="4114800"/>
            <a:ext cx="1566720" cy="198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15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3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5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5000" fill="hold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17500"/>
                            </p:stCondLst>
                            <p:childTnLst>
                              <p:par>
                                <p:cTn id="27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5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5000" fill="hold"/>
                                        <p:tgtEl>
                                          <p:spTgt spid="3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24500"/>
                            </p:stCondLst>
                            <p:childTnLst>
                              <p:par>
                                <p:cTn id="32" nodeType="afterEffect" fill="hold" presetClass="entr" presetID="19" presetSubtype="10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3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Thespis (534 B. C.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First “actor”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Introduced art of acting a part on stag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dramatic impersonation of another character 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Uncertain whether he was a playwright, an actor, or a pries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lnSpc>
                <a:spcPct val="10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hespian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”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 term comes from his name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indefinite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down)" transition="in">
                                      <p:cBhvr additive="repl">
                                        <p:cTn id="43" dur="500"/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500" fill="hold"/>
                                        <p:tgtEl>
                                          <p:spTgt spid="3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5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37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37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65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37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72" nodeType="afterEffect" fill="hold" presetClass="entr" presetID="23" presetSubtype="528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37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Description of Greek Theat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7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Took place in large hillside amphitheater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lvl="1" marL="685800" indent="-336600">
              <a:spcBef>
                <a:spcPts val="601"/>
              </a:spcBef>
              <a:buClr>
                <a:srgbClr val="c1f944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95959"/>
                </a:solidFill>
                <a:latin typeface="Calisto MT"/>
              </a:rPr>
              <a:t>held as many as 15,000 to 20,000 people!!</a:t>
            </a:r>
            <a:endParaRPr b="0" lang="en-US" sz="20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Players included a chorus and their leader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Lines were chanted rather than spoken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Chorus performed in an 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“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orchestra</a:t>
            </a:r>
            <a:r>
              <a:rPr b="0" lang="ja-JP" sz="2200" spc="-1" strike="noStrike">
                <a:solidFill>
                  <a:srgbClr val="595959"/>
                </a:solidFill>
                <a:latin typeface="Arial"/>
                <a:ea typeface="ＭＳ 明朝"/>
              </a:rPr>
              <a:t>”</a:t>
            </a: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, not on a raised platform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" dur="indefinite" restart="never" nodeType="tmRoot">
          <p:childTnLst>
            <p:seq>
              <p:cTn id="79" dur="indefinite" nodeType="mainSeq">
                <p:childTnLst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87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3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" nodeType="with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2" dur="500"/>
                                        <p:tgtEl>
                                          <p:spTgt spid="3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94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3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3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25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3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Text Box 5"/>
          <p:cNvSpPr/>
          <p:nvPr/>
        </p:nvSpPr>
        <p:spPr>
          <a:xfrm>
            <a:off x="1660680" y="2293920"/>
            <a:ext cx="4381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Theater (continued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1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Masks used to represent characters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High-soled boots worn to add height 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  <a:p>
            <a:pPr marL="343080" indent="-343080"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595959"/>
                </a:solidFill>
                <a:latin typeface="Calisto MT"/>
              </a:rPr>
              <a:t>Both of these limited movement</a:t>
            </a:r>
            <a:endParaRPr b="0" lang="en-US" sz="2200" spc="-1" strike="noStrike">
              <a:solidFill>
                <a:srgbClr val="595959"/>
              </a:solidFill>
              <a:latin typeface="Calisto MT"/>
            </a:endParaRPr>
          </a:p>
        </p:txBody>
      </p:sp>
      <p:pic>
        <p:nvPicPr>
          <p:cNvPr id="382" name="Picture 9" descr="C:\My Documents\My Pictures\masks.gif"/>
          <p:cNvPicPr/>
          <p:nvPr/>
        </p:nvPicPr>
        <p:blipFill>
          <a:blip r:embed="rId1"/>
          <a:stretch/>
        </p:blipFill>
        <p:spPr>
          <a:xfrm>
            <a:off x="2057400" y="4038480"/>
            <a:ext cx="518148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5" dur="indefinite" restart="never" nodeType="tmRoot">
          <p:childTnLst>
            <p:seq>
              <p:cTn id="106" dur="indefinite" nodeType="mainSeq">
                <p:childTnLst>
                  <p:par>
                    <p:cTn id="107" nodeType="clickEffect" fill="hold">
                      <p:stCondLst>
                        <p:cond delay="indefinite"/>
                      </p:stCondLst>
                      <p:childTnLst>
                        <p:par>
                          <p:cTn id="1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3" nodeType="afterEffect" fill="hold" presetClass="entr" presetID="16" presetSubtype="37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115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1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3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22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3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27" nodeType="afterEffect" fill="hold" presetClass="entr" presetID="2" presetSubtype="2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3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Greek Theater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84" name="Picture 4" descr="C:\My Documents\My Pictures\m69f.jpg"/>
          <p:cNvPicPr/>
          <p:nvPr/>
        </p:nvPicPr>
        <p:blipFill>
          <a:blip r:embed="rId1"/>
          <a:stretch/>
        </p:blipFill>
        <p:spPr>
          <a:xfrm>
            <a:off x="1905120" y="2666880"/>
            <a:ext cx="5411520" cy="35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40" nodeType="afterEffect" fill="hold" presetClass="entr" presetID="5" presetSubtype="5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600" spc="-1" strike="noStrike">
                <a:solidFill>
                  <a:srgbClr val="ffffff"/>
                </a:solidFill>
                <a:latin typeface="Calisto MT"/>
              </a:rPr>
              <a:t>Most Important Era (400s B.C.)</a:t>
            </a:r>
            <a:endParaRPr b="0" lang="en-US" sz="46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6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Tragedies performed as part of a civic celebration called the City Dionysia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Festival lasted several days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29040" indent="-32904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Prizes given for best tragedy, comedy, acting, and choral singing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4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56" dur="500"/>
                                        <p:tgtEl>
                                          <p:spTgt spid="3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58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0" dur="500"/>
                                        <p:tgtEl>
                                          <p:spTgt spid="3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62" nodeType="afterEffect" fill="hold" presetClass="entr" presetID="18" presetSubtype="9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164" dur="500"/>
                                        <p:tgtEl>
                                          <p:spTgt spid="3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300"/>
            </a:br>
            <a:r>
              <a:rPr b="0" lang="en-US" sz="4300" spc="-1" strike="noStrike">
                <a:solidFill>
                  <a:srgbClr val="ffffff"/>
                </a:solidFill>
                <a:latin typeface="Calisto MT"/>
              </a:rPr>
              <a:t>Theater of Dionysus</a:t>
            </a:r>
            <a:endParaRPr b="0" lang="en-US" sz="4300" spc="-1" strike="noStrike">
              <a:solidFill>
                <a:srgbClr val="ffffff"/>
              </a:solidFill>
              <a:latin typeface="Calisto MT"/>
            </a:endParaRPr>
          </a:p>
        </p:txBody>
      </p:sp>
      <p:sp>
        <p:nvSpPr>
          <p:cNvPr id="388" name=""/>
          <p:cNvSpPr txBox="1"/>
          <p:nvPr/>
        </p:nvSpPr>
        <p:spPr>
          <a:xfrm>
            <a:off x="739800" y="2769840"/>
            <a:ext cx="7662960" cy="3267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Located on slope below the Acropolis in Athens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Seated 14,000 +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Circular acting area called orchestra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  <a:p>
            <a:pPr marL="335880" indent="-335880">
              <a:lnSpc>
                <a:spcPct val="90000"/>
              </a:lnSpc>
              <a:spcBef>
                <a:spcPts val="2001"/>
              </a:spcBef>
              <a:buClr>
                <a:srgbClr val="80b606"/>
              </a:buClr>
              <a:buSzPct val="90000"/>
              <a:buFont typeface="Wingdings" charset="2"/>
              <a:buChar char="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595959"/>
                </a:solidFill>
                <a:latin typeface="Calisto MT"/>
              </a:rPr>
              <a:t>Skene (stage house)</a:t>
            </a:r>
            <a:endParaRPr b="0" lang="en-US" sz="3400" spc="-1" strike="noStrike">
              <a:solidFill>
                <a:srgbClr val="595959"/>
              </a:solidFill>
              <a:latin typeface="Calisto M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4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3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3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8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3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95" nodeType="afterEffect" fill="hold" presetClass="entr" presetID="23" presetSubtype="36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3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457200" y="344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alisto MT"/>
              </a:rPr>
              <a:t>The Physical Structure of the Greek Theater</a:t>
            </a:r>
            <a:endParaRPr b="0" lang="en-US" sz="4000" spc="-1" strike="noStrike">
              <a:solidFill>
                <a:srgbClr val="ffffff"/>
              </a:solidFill>
              <a:latin typeface="Calisto MT"/>
            </a:endParaRPr>
          </a:p>
        </p:txBody>
      </p:sp>
      <p:pic>
        <p:nvPicPr>
          <p:cNvPr id="390" name="Picture 5" descr="greek theater"/>
          <p:cNvPicPr/>
          <p:nvPr/>
        </p:nvPicPr>
        <p:blipFill>
          <a:blip r:embed="rId1"/>
          <a:stretch/>
        </p:blipFill>
        <p:spPr>
          <a:xfrm>
            <a:off x="1600200" y="1600200"/>
            <a:ext cx="5157720" cy="450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9T01:01:09Z</dcterms:created>
  <dc:creator>GUGEL</dc:creator>
  <dc:description/>
  <dc:language>en-US</dc:language>
  <cp:lastModifiedBy>Mary Burke</cp:lastModifiedBy>
  <dcterms:modified xsi:type="dcterms:W3CDTF">2014-03-31T04:04:17Z</dcterms:modified>
  <cp:revision>26</cp:revision>
  <dc:subject/>
  <dc:title>Greek Drama</dc:title>
</cp:coreProperties>
</file>