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F8A-7B89-4CAC-818F-0BE4D91C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D73-97A5-4216-9B4B-CC82CCE8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DC7CC-A4B1-4091-A46F-63E31BA8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689AC-C5D6-4F46-A164-ACF1D98E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AC089-3E90-4A08-9C47-BC136A6F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11147-280E-45CA-A73D-AC7D3E4E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7D8F3-D88E-484F-B385-2585C58F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FF3C8-13F9-4C21-90E1-2189C5E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7C97A-79D0-4204-8B56-281C1FC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89987-B164-419F-99BC-99F3682D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5A8D3-BEB4-4C27-B7C2-619E3656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F21-E11D-45F2-8720-DF1CA97B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77E-E2CF-4585-817E-A6D03090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C005-116A-4566-8ECD-CA27B9EC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4794-91AE-4171-963C-4D0DE4A0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A431-0E05-4D5D-9938-5EF586B9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F3FD-D2DE-4B26-AECC-1CBE30E4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EB05-FBE9-4BD6-A726-425D7B64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6C4A-4379-48EE-8E3C-E478D66A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FE14-E621-40EF-BE17-E5BF919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3CB-8EF4-48D1-B29E-D2D08553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6F4A-06B6-40DC-823B-F9217B1B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26BF-DB77-4A4E-8917-1EA39981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FA11-14F5-4269-9DAF-FB6D616A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AA89-CEA5-4290-A735-FA12FDC8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5256-0F38-4854-AECE-C6791793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4A9C-F709-4045-A5BF-056EE857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7EAB-4510-4D35-9F4B-4CA163B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2858-E9B1-4EA4-98F3-28B1D2CC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F67D-419C-4AD5-9D3D-31BA6C61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008B-142E-4C5B-9510-51C98C10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6FE-29F7-44C3-B7E3-C93BDAA1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43C41-7A82-41ED-BB12-44D9D295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1A2F-3E21-4069-B2BF-E0C973C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D27C-D874-4D72-A206-0A6F3DB0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ABB6-A462-42D5-BEB8-4C7A029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ECB7-9371-4C04-8F09-05CEEC8A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19222-176F-4F80-91BE-169CF4C5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9F29-1747-40D8-BADF-6FB6ED9B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081DC-7DD1-4E3E-A3A5-3B9618C5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3674C-923D-4A91-9404-6AD7766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739D-8BB5-4780-B027-2CB6B41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980-6398-43E7-AA78-F54E8D51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3573-7253-4A83-97E3-272C4C7D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FAF0-C245-47A4-BBF6-D2BD5D84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26E6-30BA-4491-8FF9-07D03053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BFAA-AD35-4CE1-8A50-8ABD3B89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C3BB-EF00-4BF4-ADB2-163C4284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597F-6B1B-477D-B28D-E547135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0902-EB66-459B-BFF2-29B932F2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7E1A7-C72D-40D5-8814-6CE85689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54FE-B055-4E82-A41C-B9F0DE41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78204-D9C3-4911-878A-0BABE05C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1CD-1381-4516-9036-9E6244CC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6A16-28D4-4A20-A94B-95D4D06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ADCD5-BA72-4CC2-9B8C-ED1936FD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DBD5-DA95-4013-A2C0-78C11B9B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E94D3-81AD-4A79-A4A3-DA1D99CB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7713-C251-4433-B0E8-F030B6F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12EB-6BF5-4333-A96C-803814BB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2427D-7C5D-4937-BF81-570EE65E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7B95E-2858-4EF2-A7CF-066D8EF6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D7CDB-9B69-4101-9CF2-F4EF5160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09044-1039-41D8-9D22-B448A08E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802-4162-4E6A-9739-AA13E23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7F187-F5C4-4841-913D-49856E5E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8538A-9615-4BBE-B2DF-3BAAA7B2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3C397-DF42-4755-882B-85F5B180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43FEE-3EAA-49A5-8A37-9E335487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0D05E-A93C-4429-A9FB-A1DFFB2F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99D1-2DAF-4CC5-A61E-759A97E3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67D57-04C9-46B0-9098-450FF41B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250B6-B39A-42C5-ADCA-802A09B4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685E-EAD2-4EE5-BE2C-3A1B714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E4E3-EE76-4D41-86AC-4D65BA4F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517-414C-4B39-B1CE-41590743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BE555-63A5-4336-831C-6F53FE3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7F247-D3FF-4B8A-BC44-50C6E907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0B24-1CF7-4830-A799-87740721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1D0E8-6C58-4971-AA12-89A6F297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FE1EA-3B0C-40BC-B9CF-30402C6A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DCCD9-3029-4900-8284-9397A12D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61C6D-A35B-4234-BE6D-C786754C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FD479-A0C2-4683-916C-21A90AE0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B0A8B-117D-44F8-8CF7-2CCB1A85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38524-81E9-4968-ACE8-9342135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DBA-C5BE-45FC-A099-656B587C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9A10-C66E-46F5-9FB5-EFA096A3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73716-26CA-43CB-BD13-CBD8688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F8F63-B4A0-4503-8280-A4D92D82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FEBBD-6DC9-4014-8411-7E7CED92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3FCB8-302D-4423-9D0A-64871F06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62BD2-DC4A-494D-88D0-BB2CF068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A62BC-D777-4D05-A41E-7AFB2312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8E49C-9D0C-49EF-927F-E5F930A4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CB6DD-DC69-40E7-8532-0A9BBC28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8B8AC-A63B-4299-B7AE-80604754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F21-E52E-4C93-8D2D-B68305A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6F593-004C-4E3C-A212-BA84BA90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87E9-E6BA-47E3-9A6E-FB1160B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73CE1-5BB0-4CDF-9B32-82404D79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75EA0-EBDE-487C-8141-85358E5E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B1967-6176-4198-866A-C689F188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B0767-7895-4075-B405-060078A9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3BE9C-B3C0-405A-A7C4-F0581EE6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E80A3-7B5B-4E69-9EAC-BB26DE52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752E5-672F-4A40-95FA-E9E14E7D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A000A-020C-4704-B4C7-C0D4CAC0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379B-B079-460B-8C41-A149381AF67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0335-8803-44E4-A9B3-DFEFD1F4A9F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32B5-D079-4003-B13B-A10DE0E1583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EF9E-9A64-44A0-B052-BA3137C796E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CB66-6A18-46C5-95D7-1AFF3DB7478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FA63-3879-4316-B58A-6620FABEF69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85B4-1D1E-4731-8330-5108BE3A1CE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F44E-C0F6-42C2-818C-0A0AB7A3AD1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A07A-A576-4324-AEF1-3F928E40701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Calisto MT"/>
              </a:rPr>
              <a:t>Greek Drama</a:t>
            </a:r>
            <a:endParaRPr b="0" lang="en-US" sz="79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ragedy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arly all surviving tragedies are based on myth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haracter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 struggle against hostile forces ended in defeat and ultimately in death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series of dramatic episodes separated by choral odes (mini-songs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pisodes performed by a few actors - never more than 3 on stage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Drama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ore masks to indicate the nature of the characters playe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en played women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 ro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ame actor appeared in several part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f the hundreds of Greek tragedies written, fewer than 35 surviv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50920" y="189000"/>
            <a:ext cx="86421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Greek Trage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hree Greek Tragedian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eschyl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his are the oldest surviving plays - began competing in 449 at Dionysus Theatre. Most of his plays were part of tri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ophocles: (496-406 B.C.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n 24 contests, never lower than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d to have introduced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tor; fixed the chorus at 15 (had been 50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Euripides (480-406 B.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y popular in later Greek times, little appreciated during his life sometimes known as "the father of melodrama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ree Playwright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eschylus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7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Most famous for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resteia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6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troduced concept of second acto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6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panded possibilities for plot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8" name="Picture 4" descr="http://rds.yahoo.com/S=96062883/K=Aeschylus/v=2/SID=e/l=IVS/SIG=128ne0vou/EXP=1137596459/*-http%3A//www2.smumn.edu/facpages/~jtadie/aeschylus.jpg"/>
          <p:cNvPicPr/>
          <p:nvPr/>
        </p:nvPicPr>
        <p:blipFill>
          <a:blip r:embed="rId1"/>
          <a:stretch/>
        </p:blipFill>
        <p:spPr>
          <a:xfrm>
            <a:off x="6400800" y="2666880"/>
            <a:ext cx="19494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ophocl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novation of the third acto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ost famous f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Oedipus Rex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1" name="Picture 6" descr="http://rds.yahoo.com/S=96062883/K=Sophocles/v=2/SID=e/l=IVS/SIG=13ah5bc6o/EXP=1137596577/*-http%3A//www.luc.edu/depts/history/dennis/Visual_Arts/101Images/07_5.05-97_Sophocles.jpg"/>
          <p:cNvPicPr/>
          <p:nvPr/>
        </p:nvPicPr>
        <p:blipFill>
          <a:blip r:embed="rId1"/>
          <a:stretch/>
        </p:blipFill>
        <p:spPr>
          <a:xfrm>
            <a:off x="5715000" y="3733920"/>
            <a:ext cx="27147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uripid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reated the ultimate form of drama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ar more naturalistic or human approach in his work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wed interest in psychology through portraits of wom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edea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s most famous 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s how a mother kills her children to gai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revenge against their fath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4" name="Picture 8" descr="http://rds.yahoo.com/S=96062883/K=Euripides/v=2/SID=e/l=IVS/SIG=1394v3s8r/EXP=1137596619/*-http%3A//images.encarta.msn.com/xrefmedia/sharemed/targets/images/pho/t070/T070183a.jpg"/>
          <p:cNvPicPr/>
          <p:nvPr/>
        </p:nvPicPr>
        <p:blipFill>
          <a:blip r:embed="rId1"/>
          <a:stretch/>
        </p:blipFill>
        <p:spPr>
          <a:xfrm>
            <a:off x="7010280" y="4419720"/>
            <a:ext cx="1737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uripides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281916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edea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s most famous 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s how a mother kills her children to gain revenge against their fath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7" name="Picture 4" descr="C:\My Documents\My Pictures\eurip.jpg"/>
          <p:cNvPicPr/>
          <p:nvPr/>
        </p:nvPicPr>
        <p:blipFill>
          <a:blip r:embed="rId1"/>
          <a:stretch/>
        </p:blipFill>
        <p:spPr>
          <a:xfrm>
            <a:off x="3048120" y="160020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Drama was born in ancient Greece!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600s B.C. - Greeks were giving choral performances of dancing and singing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erformances at festivals honoring Dionysu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Later they held drama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   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ntests to honor him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4" name="Picture 6" descr="C:\My Documents\My Pictures\dion1i.jpg"/>
          <p:cNvPicPr/>
          <p:nvPr/>
        </p:nvPicPr>
        <p:blipFill>
          <a:blip r:embed="rId1"/>
          <a:stretch/>
        </p:blipFill>
        <p:spPr>
          <a:xfrm>
            <a:off x="6629400" y="4114800"/>
            <a:ext cx="1566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espis (534 B. C.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rst “actor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troduced art of acting a part on stag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ramatic impersonation of another character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ncertain whether he was a playwright, an actor, or a pries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spian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”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term comes from his nam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Description of Greek Theat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ook place in large hillside amphithea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eld as many as 15,000 to 20,000 people!!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layers included a chorus and their leade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Lines were chanted rather than spok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horus performed in an 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chestra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”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, not on a raised platform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5"/>
          <p:cNvSpPr/>
          <p:nvPr/>
        </p:nvSpPr>
        <p:spPr>
          <a:xfrm>
            <a:off x="1660680" y="2293920"/>
            <a:ext cx="43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heater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asks used to represent charac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High-soled boots worn to add height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oth of these limited movemen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2" name="Picture 9" descr="C:\My Documents\My Pictures\masks.gif"/>
          <p:cNvPicPr/>
          <p:nvPr/>
        </p:nvPicPr>
        <p:blipFill>
          <a:blip r:embed="rId1"/>
          <a:stretch/>
        </p:blipFill>
        <p:spPr>
          <a:xfrm>
            <a:off x="2057400" y="4038480"/>
            <a:ext cx="51814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heat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84" name="Picture 4" descr="C:\My Documents\My Pictures\m69f.jpg"/>
          <p:cNvPicPr/>
          <p:nvPr/>
        </p:nvPicPr>
        <p:blipFill>
          <a:blip r:embed="rId1"/>
          <a:stretch/>
        </p:blipFill>
        <p:spPr>
          <a:xfrm>
            <a:off x="1905120" y="2666880"/>
            <a:ext cx="54115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ost Important Era (400s B.C.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Tragedies performed as part of a civic celebration called the City Dionysia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Festival lasted several days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Prizes given for best tragedy, comedy, acting, and choral singing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4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alisto MT"/>
              </a:rPr>
              <a:t>Theater of Dionysus</a:t>
            </a:r>
            <a:endParaRPr b="0" lang="en-US" sz="43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Located on slope below the Acropolis in Athens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Seated 14,000 +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Circular acting area called orchestra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Skene (stage house)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he Physical Structure of the Greek Theater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90" name="Picture 5" descr="greek theater"/>
          <p:cNvPicPr/>
          <p:nvPr/>
        </p:nvPicPr>
        <p:blipFill>
          <a:blip r:embed="rId1"/>
          <a:stretch/>
        </p:blipFill>
        <p:spPr>
          <a:xfrm>
            <a:off x="1600200" y="1600200"/>
            <a:ext cx="51577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01:01:09Z</dcterms:created>
  <dc:creator>GUGEL</dc:creator>
  <dc:description/>
  <dc:language>en-US</dc:language>
  <cp:lastModifiedBy>Mary Burke</cp:lastModifiedBy>
  <dcterms:modified xsi:type="dcterms:W3CDTF">2014-03-31T04:04:17Z</dcterms:modified>
  <cp:revision>26</cp:revision>
  <dc:subject/>
  <dc:title>Greek Drama</dc:title>
</cp:coreProperties>
</file>