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2BA-3C88-467E-95B8-BAF33496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D9D-5D1F-4F42-9F52-51F548A0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77C-5CD5-4A3D-8D39-EC575044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9F3-1997-4210-AE91-5D14CE02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27B9-E7E9-471F-B487-0686BFF4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69BB-CCAB-433E-B14D-7A91C6E8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1722-892A-4535-ABD1-33F70D9D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F07A-B629-43D4-9099-5AC1658A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DBEA-5C13-4BEC-AD27-90613177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3B3C-37BE-44D4-B7AC-E9B243ED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09E2-534F-4506-A2DF-65C308DB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C91-F0DA-47D6-9F62-F36ED29F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C945-8627-49DA-9BA3-88D7F491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F090-2F19-401F-BFB1-55768B30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ADA6-C644-46DF-B03E-7CB73AB7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B09E-D18B-4A8D-94D4-3802BDF2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F1A3-5617-4281-8D00-F85A5D69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AE3-2E14-4111-8E33-91A92EA2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DB8-6F37-4317-B299-45BFE5A9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128-D10C-470D-BEBE-921DDBDC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B79-983D-42A7-B6BC-B79AA873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1E9-001D-4AB6-A22D-0C40ABD0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CFB-07D3-4702-A160-3C96C32A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801-D8F4-4925-9BE0-59E89E7D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e1ce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585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2C72-2F13-4040-8ABC-A2CFC5522C1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e1ce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585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8765-D0A2-4100-BF80-F5DFFA74D44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rdonn.org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55851"/>
                </a:solidFill>
                <a:latin typeface="Tahoma"/>
              </a:rPr>
              <a:t>Ancient Greek Life</a:t>
            </a:r>
            <a:endParaRPr b="0" lang="en-US" sz="48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Book Antiqua"/>
              </a:rPr>
              <a:t>Information for this presentation courtesy of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c6148"/>
                </a:solidFill>
                <a:uFillTx/>
                <a:latin typeface="Book Antiqua"/>
                <a:hlinkClick r:id="rId2"/>
              </a:rPr>
              <a:t>www.mrdonn.org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Book Antiqua"/>
              </a:rPr>
              <a:t>A fantastic social studies website!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lave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laves were very important to ancient Greek lif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laves cleaned and cooked, worked in the fields, factories, shops, mines, and on ship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 police force in ancient Athens was made up of slav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laves could not: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o to schoo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nter politic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use their own na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were the property of their owner, not citizens of ancient Gree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How did people become slaves?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en captured in batt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ome were the children of slav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reek infants abandoned &amp; left to di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ome children were sold into slavery by poor, desperate famil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ome children were kidnapped into i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oys – Ancient Greek children played with rattles, little clay animals, horses on 4 wheels that could be pulled on a string, yo-yos, and terra-cotta dol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Pets – birds, dogs, goats, tortoises, and mice were all popular pets.  Cats were not though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Greek house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ade up of 2 or 3 rooms, built around an open air courtyar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omen could enjoy fresh air in the privacy of their courtyar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uch of ancient Greek life centered around the courtyar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Ancient Greek Food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long the coastline, the soil was not very ferti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ncient Greeks used systems of irrigation and crop rotation to help solve the probl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grew olives, grapes, and fig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kept goats for milk and chee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the plains where the soil was more rich, they grew wheat for brea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ish, seafood, and home-made wine were very popula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eat was rarely eaten, was used mostly for religious sacrific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Clothing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reek clothing was very simp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en and women wore linen in the summer and wool in the win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ncient Greeks could buy clothes in the </a:t>
            </a:r>
            <a:r>
              <a:rPr b="1" i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agora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, the marketplace, but that was very expensiv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ost families made their own cloth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Hairstyle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Both men and women enjoyed using mirrors and hairbrush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omen kept their hair long at all tim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en cut their hair short, and unless they were soldiers, wore beard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Dance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Dance was very important to the ancient Greek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Rarely did men and women dance togeth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re were more than 200 ancient Greek danc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arliest Greek civilizations thrived nearly 4,000 yea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ir culture still impacts us toda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r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hilosoph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a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literatu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olitic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torie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ncient Greeks loved stor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Odysseus and the Terrible Sea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Circe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esop’s Fables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Athens &amp; Sparta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ancient Athens, the purpose of education was to produce citizens trained in the arts.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Basically, to prepare citizens for both peace and wa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ancient Sparta, the purpose of education was to produce a well-drilled, well-disciplined marching army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Athen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irls were not educated at schoo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Until age 6 or 7, boys were educated by their mothers or a male slav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rom age 8 – 14, they went to a primary school or private school in the neighborhoo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ollowing that, boys attended a higher school for four more yea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en they turned 18, they entered military school for two additional yea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t age 20, they graduate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parta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partans believed in a life of discipline, self-denial, and simplicit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were very loyal to the state of Spart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very Spartan, male or female, was required to have a perfect bo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Babies were inspected upon birt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f they passed inspection, they were assigned membership in a brotherhood or sisterhood, usually the same one to which their father or mother belonged.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hey became citizens of Spart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f they failed inspection, (did not appear strong and healthy), they were taken away to be trained as a slave or left to die on a hillsi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partan boy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ent to military school at age 6 or 7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aught survival skills and other skills necessary to be a great soldi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chool courses were difficult and often painfu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lthough they were taught reading and writing, these skills were not very important in ancient Spart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Only warfare mattere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t was a brutal training perio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Between age 18 – 20, Spartan males had to pass a difficult test of fitness, military ability, and leadership skil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If they passed: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became a full citizen and a Spartan soldi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partan soldiers spent most of their lives with fellow soldi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hey ate, slept, and continued to train with the oth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f married, they did not live with their wives and famil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If they failed: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became a </a:t>
            </a:r>
            <a:r>
              <a:rPr b="1" i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perioikos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, a middle class memb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ere allowed to own property and have business dealings, but had no political rights and were not citizen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55851"/>
                </a:solidFill>
                <a:latin typeface="Tahoma"/>
              </a:rPr>
              <a:t>Gifts the ancient Greeks gave to the world: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rial by Jur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reek Myth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Democrac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ragedy and Come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at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 Olympic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partan girl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Sparta, girls went to school at age 6 or 7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lived, slept, and trained in their sisterhood barrack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irls were taught wrestling, gymnastics, and combat skil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partans believed that strong women would produce strong bab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4149720" y="32353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525" y="8985"/>
                </a:moveTo>
                <a:lnTo>
                  <a:pt x="11525" y="898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14840" y="3668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319" y="10192"/>
                </a:moveTo>
                <a:lnTo>
                  <a:pt x="10319" y="1019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5400" y="36813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017" y="10224"/>
                </a:moveTo>
                <a:lnTo>
                  <a:pt x="11017" y="1022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8120" y="36813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716" y="10224"/>
                </a:moveTo>
                <a:lnTo>
                  <a:pt x="11716" y="1022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6920" y="3692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795" y="10255"/>
                </a:moveTo>
                <a:lnTo>
                  <a:pt x="12795" y="1025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t age 18, Spartan girls were also put to a test of fitness and skil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f she passed: she would be assigned a husband and was allowed to return hom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f she failed: she would lose her rights as a citizen and become a perioikos, a member of the middle clas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Sparta, citizen women enjoyed a great deal of freedo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Wedding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ancient Athens, wedding ceremonies began after dar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 veiled bride traveled from her home to the home of the groom while standing in a chario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During the wedding ceremony, the bride would eat an apple, or another piece of fruit, to show that food and other basic needs would now come from her husban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partan wedding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edding ceremonies were simp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fter a tussle, to prove his superior strength, the groom would toss his bride over his shoulder and carry her off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5851"/>
                </a:solidFill>
                <a:latin typeface="Tahoma"/>
              </a:rPr>
              <a:t>To be a citizen of a city-state: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ncient Greeks referred to themselves as citizens of their individual city-stat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ach city-state, or </a:t>
            </a:r>
            <a:r>
              <a:rPr b="1" i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POLIS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, had its own personality, goals, laws, and custom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ncient Greeks were very loyal to their city-sta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Greek men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en ran the govern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pent a great deal of time away from ho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en not busy with government, they spent their time in fields, sailing, hunting, in manufacturing, or in tra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or fun, they enjoyed drinking parties, wrestling, horseback riding or the Olympic gam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Greek women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ith the exception of Sparta, Greek women had very limited freedom outside the ho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the home, however, Greek women were in charg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ost Greek households had slaves to do the cooking and clean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Greek babie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ncient Greeks considered their children to be “youths” until age 3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en a child was born to a Greek family, the father would carry his child, in a ritual dance, around the househol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Greek girl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ith the exception of Sparta, girls in Athens and all other city-states stayed home until they were marrie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ir job was to help their mother and to help in the fields, if necessar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Greek boy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most city-states, very young boys stayed at home helping in the fields, sailing, and fish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t age 6 or 7, they went to schoo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6:07:07Z</dcterms:created>
  <dc:creator>anna.bettencourt</dc:creator>
  <dc:description/>
  <dc:language>en-US</dc:language>
  <cp:lastModifiedBy>Anna Bettencourt</cp:lastModifiedBy>
  <dcterms:modified xsi:type="dcterms:W3CDTF">2011-01-17T20:23:21Z</dcterms:modified>
  <cp:revision>6</cp:revision>
  <dc:subject/>
  <dc:title>Ancient Greek Life</dc:title>
</cp:coreProperties>
</file>