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F0E-4E54-4AE2-AF36-72B2FFF7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463-473E-4BA4-8055-4A9AFDE6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0AC6F-4E9F-46C6-B70E-2F09E128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70277-449A-4B63-BCFA-8D1557A0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A0743-9301-464A-A6BF-4C155029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821D2-0504-4BB8-8A70-2D223297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86F06-4868-4AC7-94FD-49B48CB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B1594-C1A3-4B8A-B0F7-FE93A12E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88AE6-7D52-496D-A5F2-80A7C2AA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C2A79-0B26-4A91-8795-F1B10315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7A1AA-A3FF-4364-ABEE-CC224C57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B9B-1C47-4D30-9B7F-9914AB10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3BF-BA9A-4B01-A6E8-8A145787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4300-F7EF-4C2C-AEC4-6CB22E2B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8237-1988-43DC-AD64-C90D8A27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2A02-847F-4700-A378-80811CA0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E7EC-7266-46AE-90DF-091AA667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0CEF-DB03-40D5-8765-D4FB7BF4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C573-C773-442B-9816-4658C011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BE37-77B3-49D9-AB75-AB3AFCB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C34-A588-445B-B51D-4DE3D907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B321-9EFB-438F-8D4F-3E249242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7D73-8123-40FF-A07D-D5C5E2D8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BFEE-32D2-4003-9E47-4B913C2A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665C-1C34-4877-B12C-31A0087C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0D18-C3A6-4343-915C-05364571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E315-A5E0-41DD-BC99-5F9C94A9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7733-FE0D-4605-94A0-3072F5C2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15E47-C95F-4151-B5DE-F561F286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3E41-1630-4813-80B5-BBE33570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A718-FA87-4F02-9EA9-0B675427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FB9-18DE-42DE-8026-0AED5BF7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FF9E-181B-4030-8BBA-BABE461C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3664-23AD-4ABE-BD61-0B0AB2F6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3D8A-C67E-44B3-8702-F86E7A50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240B-403F-4AB3-BE99-40B18DCD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8ED5-2EB2-450E-B872-C24CEE45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FDBD-F2D7-407D-A078-CF5EED35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9664-ACAB-4D9A-9038-102B43E0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CFC13-A4F6-4771-B5DC-8599B35D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A8BFE-FEDC-4EBC-BBEB-DCE7A22C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762F-B636-40D1-BC3C-BAED9CEA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6EC-3768-42A1-B9DD-8F750F0A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0BFB-F1ED-4A0A-A225-8D591287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55E7-1F4C-4B60-A8A6-2E12107F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BA33-2FE9-4C59-80DB-75D11416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5961-EE3C-43DB-9E17-5AFA824C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13902-EF15-4F51-A677-24F27602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231A-B935-49B9-9115-09744F5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006D-DF46-48C4-9E9A-15BD2A5E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DD3E-DEC0-4F81-B4A2-FE2A1255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3D3B7-E7B4-4CBC-9BB8-CFBE07C3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D2CBA-C43C-45A0-A3C3-EA3B3BC6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25A-E941-40D0-8344-7B032A63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4BA8D-DF25-45F5-9C59-C1D5EFFF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1ADA5-675C-48F1-8E1F-3E38AB4E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780C4-C383-4180-8C12-483CEB51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6B90B-417D-4AA4-89CB-8FF89D68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3019D-A0C6-4184-9BBB-126720E6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7F83A-689D-4A8A-9E47-C93F238E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D9AFE-A82C-4611-A7BD-415D8856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39DBE-2716-40F8-8B65-8AE57548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89E41-475C-4FAA-B422-6F5254B7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0A827-E62C-4B7D-9094-B788B669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967-4961-48B6-8B01-39EB9DCD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205E7-BAC3-4714-846B-CE8D55B7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40C5-B3ED-48DE-821A-14D044AA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EA35E-DABE-481C-84E2-4907D07F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0CC9E-A44A-4099-89D7-27C3863C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125AE-760F-45F7-86A8-070FF7ED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003D-1C92-46C3-991A-08962738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3E320-C551-4960-92E6-F3615675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BB5A1-5501-4804-8F80-B23C2D49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8B969-BCAA-4152-B1B1-880FCA87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F34BD-61DF-4214-B8C6-F508B0E6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BBB-57E7-4751-B8E3-1D9AA9D2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565A5-5E16-41D2-A4A0-BF9ED291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C3508-41FC-4324-BDB8-0F412338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24F0E-1F34-4CDD-8B27-5841EF16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88F78-D059-4B78-B56D-3C22AF51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FC4BB-4B4F-4F15-BD43-AB51823A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3ED01-CD9C-471D-A393-50993CAE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BD7A8-914F-46A1-9F24-78C7B0AB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DD81D-29FC-4D67-9E23-08C29F14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75555-6B30-4382-BF61-78BFBB20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DE7EA-CCD0-448A-A968-0667CDDC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F2B-7F94-4B3B-AA86-66B35135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865BC-70CB-4B6B-9587-7073DD35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6101-29B8-40BB-9E19-11BFA1F8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B150D-14CD-4CA8-BE0A-DBC97048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3DEAA-AE20-4A06-B182-0D3BE138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3F828-8226-4508-AD20-118A5E9D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3D1F0-5A0C-4CE3-B5F3-4BC23F42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1681E-3E50-4EC3-BF96-A1270A96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9834D-0916-490E-BC08-4D1BA6D3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4AC6E-9F1D-4F53-BBAE-8FC64BAD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92477-1DD4-466B-87B9-5A0E8E40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F81-B9A0-4E26-BBFC-1324BA42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A0979-B4E9-410B-A80E-80FB2E66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A6EF1-B500-4165-BEAD-9F69AB46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B4E78-71A5-43C1-A4A6-6FC192E4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392EF-3A82-4045-99C5-DDFBBF8B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DE599-ED46-41ED-89CB-F48FC22A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1D500-99B1-476F-AE0A-8A1299E2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A7F8B-DB84-4AE0-BA58-D70B2D66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B931B-9658-42C7-BA07-E8D590F4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195CE-FC6B-42CE-99A8-0F3E39D3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B7893-3AEC-4C91-B83A-2AA8C66A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42DF-A1E8-4827-A411-94854B8822A2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40B4-E38B-4E37-9373-7E36AB50554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D462-A5FF-400E-BDDD-B37C55B41BC3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7419-BF96-4C33-8509-06C224E130A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E48D-CBD3-4CD6-A4EB-A6DE63FEDEC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1293-E6D1-47F0-8C73-8E9838C062B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EF74-53CA-49C2-B40A-BC337C00DDA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599C-E23A-4C7B-B75B-FA3B7660A75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D50C-A565-4531-B2D3-22E627B1465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0000"/>
                </a:solidFill>
                <a:latin typeface="Calisto MT"/>
              </a:rPr>
              <a:t>Greek Drama</a:t>
            </a:r>
            <a:endParaRPr b="0" lang="en-US" sz="79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ragedy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arly all surviving tragedies are based on myth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haracter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’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 struggle against hostile forces ended in defeat and ultimately in death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series of dramatic episodes separated by choral odes (mini-songs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pisodes performed by a few actors - never more than 3 on stage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Drama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ore masks to indicate the nature of the characters playe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en played women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’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 ro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ame actor appeared in several part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f the hundreds of Greek tragedies written, fewer than 35 surviv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50920" y="189000"/>
            <a:ext cx="86421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Greek Trage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hree Greek Tragedian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eschyl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his are the oldest surviving plays - began competing in 449 at Dionysus Theatre. Most of his plays were part of tri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ophocles: (496-406 B.C.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n 24 contests, never lower than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ieved to have introduced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tor; fixed the chorus at 15 (had been 50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Euripides (480-406 B.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y popular in later Greek times, little appreciated during his life sometimes known as "the father of melodrama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ree Playwright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eschylus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7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Most famous for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Oresteia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6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troduced concept of second acto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6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panded possibilities for plot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8" name="Picture 4" descr="http://rds.yahoo.com/S=96062883/K=Aeschylus/v=2/SID=e/l=IVS/SIG=128ne0vou/EXP=1137596459/*-http%3A//www2.smumn.edu/facpages/~jtadie/aeschylus.jpg"/>
          <p:cNvPicPr/>
          <p:nvPr/>
        </p:nvPicPr>
        <p:blipFill>
          <a:blip r:embed="rId1"/>
          <a:stretch/>
        </p:blipFill>
        <p:spPr>
          <a:xfrm>
            <a:off x="6400800" y="2666880"/>
            <a:ext cx="19494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ophocl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novation of the third acto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ost famous for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Oedipus Rex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1" name="Picture 6" descr="http://rds.yahoo.com/S=96062883/K=Sophocles/v=2/SID=e/l=IVS/SIG=13ah5bc6o/EXP=1137596577/*-http%3A//www.luc.edu/depts/history/dennis/Visual_Arts/101Images/07_5.05-97_Sophocles.jpg"/>
          <p:cNvPicPr/>
          <p:nvPr/>
        </p:nvPicPr>
        <p:blipFill>
          <a:blip r:embed="rId1"/>
          <a:stretch/>
        </p:blipFill>
        <p:spPr>
          <a:xfrm>
            <a:off x="5715000" y="3733920"/>
            <a:ext cx="27147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uripid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reated the ultimate form of drama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ar more naturalistic or human approach in his work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wed interest in psychology through portraits of wome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Medea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is most famous work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s how a mother kills her children to gain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revenge against their fathe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4" name="Picture 8" descr="http://rds.yahoo.com/S=96062883/K=Euripides/v=2/SID=e/l=IVS/SIG=1394v3s8r/EXP=1137596619/*-http%3A//images.encarta.msn.com/xrefmedia/sharemed/targets/images/pho/t070/T070183a.jpg"/>
          <p:cNvPicPr/>
          <p:nvPr/>
        </p:nvPicPr>
        <p:blipFill>
          <a:blip r:embed="rId1"/>
          <a:stretch/>
        </p:blipFill>
        <p:spPr>
          <a:xfrm>
            <a:off x="7010280" y="4419720"/>
            <a:ext cx="1737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6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uripides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281916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Medea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is most famous work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s how a mother kills her children to gain revenge against their fathe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7" name="Picture 4" descr="C:\My Documents\My Pictures\eurip.jpg"/>
          <p:cNvPicPr/>
          <p:nvPr/>
        </p:nvPicPr>
        <p:blipFill>
          <a:blip r:embed="rId1"/>
          <a:stretch/>
        </p:blipFill>
        <p:spPr>
          <a:xfrm>
            <a:off x="3048120" y="1600200"/>
            <a:ext cx="2743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sto MT"/>
              </a:rPr>
              <a:t>Drama was born in ancient Greece!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600s B.C. - Greeks were giving choral performances of dancing and singing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erformances at festivals honoring Dionysu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Later they held drama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   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ntests to honor him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74" name="Picture 6" descr="C:\My Documents\My Pictures\dion1i.jpg"/>
          <p:cNvPicPr/>
          <p:nvPr/>
        </p:nvPicPr>
        <p:blipFill>
          <a:blip r:embed="rId1"/>
          <a:stretch/>
        </p:blipFill>
        <p:spPr>
          <a:xfrm>
            <a:off x="6629400" y="4114800"/>
            <a:ext cx="1566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espis (534 B. C.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rst “actor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troduced art of acting a part on stag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ramatic impersonation of another character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ncertain whether he was a playwright, an actor, or a pries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spian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”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term comes from his nam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Description of Greek Theat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ook place in large hillside amphitheater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eld as many as 15,000 to 20,000 people!!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layers included a chorus and their leade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Lines were chanted rather than spoke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horus performed in an 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rchestra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”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, not on a raised platform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5"/>
          <p:cNvSpPr/>
          <p:nvPr/>
        </p:nvSpPr>
        <p:spPr>
          <a:xfrm>
            <a:off x="1660680" y="2293920"/>
            <a:ext cx="43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heater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asks used to represent character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High-soled boots worn to add height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Both of these limited movemen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2" name="Picture 9" descr="C:\My Documents\My Pictures\masks.gif"/>
          <p:cNvPicPr/>
          <p:nvPr/>
        </p:nvPicPr>
        <p:blipFill>
          <a:blip r:embed="rId1"/>
          <a:stretch/>
        </p:blipFill>
        <p:spPr>
          <a:xfrm>
            <a:off x="2057400" y="4038480"/>
            <a:ext cx="51814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heat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84" name="Picture 4" descr="C:\My Documents\My Pictures\m69f.jpg"/>
          <p:cNvPicPr/>
          <p:nvPr/>
        </p:nvPicPr>
        <p:blipFill>
          <a:blip r:embed="rId1"/>
          <a:stretch/>
        </p:blipFill>
        <p:spPr>
          <a:xfrm>
            <a:off x="1905120" y="2666880"/>
            <a:ext cx="54115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Most Important Era (400s B.C.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Tragedies performed as part of a civic celebration called the City Dionysia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Festival lasted several days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Prizes given for best tragedy, comedy, acting, and choral singing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4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alisto MT"/>
              </a:rPr>
              <a:t>Theater of Dionysus</a:t>
            </a:r>
            <a:endParaRPr b="0" lang="en-US" sz="43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Located on slope below the Acropolis in Athens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Seated 14,000 +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Circular acting area called orchestra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Skene (stage house)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he Physical Structure of the Greek Theater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90" name="Picture 5" descr="greek theater"/>
          <p:cNvPicPr/>
          <p:nvPr/>
        </p:nvPicPr>
        <p:blipFill>
          <a:blip r:embed="rId1"/>
          <a:stretch/>
        </p:blipFill>
        <p:spPr>
          <a:xfrm>
            <a:off x="1600200" y="1600200"/>
            <a:ext cx="515772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01:01:09Z</dcterms:created>
  <dc:creator>GUGEL</dc:creator>
  <dc:description/>
  <dc:language>en-US</dc:language>
  <cp:lastModifiedBy>Mary Burke</cp:lastModifiedBy>
  <dcterms:modified xsi:type="dcterms:W3CDTF">2014-03-31T04:04:17Z</dcterms:modified>
  <cp:revision>26</cp:revision>
  <dc:subject/>
  <dc:title>Greek Drama</dc:title>
</cp:coreProperties>
</file>