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4CA-3C6A-43DD-B1E8-74912AD7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E45-2B33-4228-A934-87B847ED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9CA-3203-4B6E-9A71-1CA09B05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FC9-7B4D-4494-8BBF-276B120A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A396-EB04-487D-B80D-82484E57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31B5-68D6-4BAE-9699-358BA79D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DB11-A73E-4F97-B226-F4C2F664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EF89-D201-4170-9F82-73D7813A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3B79-0A07-4D64-8FE2-89EB882C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31DF-5CF2-46E4-9C78-39450BF0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A58D-61F3-40DA-A6C0-C0E53CA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3A7-471C-4911-A84E-DC95E6F1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8B73-58B6-4DFC-B8FB-A1B7C77A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1EC5-3350-4854-95F0-FA32A599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850C-12EA-4786-A4B1-CADCA332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BE63-AF3D-4252-AFBC-15764150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C4F1-6DE1-4D73-A954-8B9C85AB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EC1-7CA8-4836-BB07-D42C4AEF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0A9-2820-4F10-BE85-A01FC1D2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68A-A57C-4729-97EC-E8CE5A84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F47-BFD8-4EA3-A432-E78F4EEC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59B-7CA4-4410-BEB3-B026892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D3A-5DEA-4915-80A0-E1277B8F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275-933A-49E3-892E-84508FE9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e1ce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585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5B22-85A7-4C02-8630-88209F0C3B3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e1ce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b49234"/>
                </a:gs>
                <a:gs pos="100000">
                  <a:srgbClr val="e1ce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b49234"/>
                </a:gs>
                <a:gs pos="5000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e1ce97"/>
                </a:gs>
                <a:gs pos="100000">
                  <a:srgbClr val="b492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585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009D-4237-49DE-BEBA-9BBF792538C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rdonn.org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55851"/>
                </a:solidFill>
                <a:latin typeface="Tahoma"/>
              </a:rPr>
              <a:t>Ancient Greek Life</a:t>
            </a:r>
            <a:endParaRPr b="0" lang="en-US" sz="48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Book Antiqua"/>
              </a:rPr>
              <a:t>Information for this presentation courtesy of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c6148"/>
                </a:solidFill>
                <a:uFillTx/>
                <a:latin typeface="Book Antiqua"/>
                <a:hlinkClick r:id="rId2"/>
              </a:rPr>
              <a:t>www.mrdonn.org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Book Antiqua"/>
              </a:rPr>
              <a:t>A fantastic social studies website!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lave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laves were very important to ancient Greek lif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laves cleaned and cooked, worked in the fields, factories, shops, mines, and on ship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 police force in ancient Athens was made up of slav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laves could not: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o to schoo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nter politic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use their own na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were the property of their owner, not citizens of ancient Gree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How did people become slaves?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en captured in batt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ome were the children of slav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reek infants abandoned &amp; left to di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ome children were sold into slavery by poor, desperate famil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ome children were kidnapped into i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oys – Ancient Greek children played with rattles, little clay animals, horses on 4 wheels that could be pulled on a string, yo-yos, and terra-cotta dol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Pets – birds, dogs, goats, tortoises, and mice were all popular pets.  Cats were not though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house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ade up of 2 or 3 rooms, built around an open air courtyar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omen could enjoy fresh air in the privacy of their courtyar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uch of ancient Greek life centered around the courtyar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Ancient Greek Food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long the coastline, the soil was not very ferti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used systems of irrigation and crop rotation to help solve the probl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grew olives, grapes, and fig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kept goats for milk and chee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the plains where the soil was more rich, they grew wheat for brea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ish, seafood, and home-made wine were very popula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eat was rarely eaten, was used mostly for religious sacrific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Clothing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reek clothing was very simp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en and women wore linen in the summer and wool in the win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could buy clothes in the </a:t>
            </a:r>
            <a:r>
              <a:rPr b="1" i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agora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, the marketplace, but that was very expensiv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ost families made their own cloth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Hairstyle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Both men and women enjoyed using mirrors and hairbrush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omen kept their hair long at all tim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en cut their hair short, and unless they were soldiers, wore beard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Dance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ance was very important to the ancient Greek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Rarely did men and women dance togeth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re were more than 200 ancient Greek danc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arliest Greek civilizations thrived nearly 4,000 yea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ir culture still impacts us toda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r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hilosoph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a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litera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olitic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torie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loved stor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Odysseus and the Terrible Sea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Circe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esop’s Fables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Athens &amp; Sparta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ancient Athens, the purpose of education was to produce citizens trained in the arts.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Basically, to prepare citizens for both peace and wa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ancient Sparta, the purpose of education was to produce a well-drilled, well-disciplined marching army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Athen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irls were not educated at schoo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Until age 6 or 7, boys were educated by their mothers or a male slav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rom age 8 – 14, they went to a primary school or private school in the neighborhoo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ollowing that, boys attended a higher school for four more yea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en they turned 18, they entered military school for two additional yea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t age 20, they graduate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parta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partans believed in a life of discipline, self-denial, and simplicit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were very loyal to the state of Spart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very Spartan, male or female, was required to have a perfect bo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Babies were inspected upon birt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f they passed inspection, they were assigned membership in a brotherhood or sisterhood, usually the same one to which their father or mother belonged.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ey became citizens of Spart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f they failed inspection, (did not appear strong and healthy), they were taken away to be trained as a slave or left to die on a hillsi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partan boy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ent to military school at age 6 or 7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aught survival skills and other skills necessary to be a great soldi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chool courses were difficult and often painfu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lthough they were taught reading and writing, these skills were not very important in ancient Spart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Only warfare mattere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t was a brutal training perio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Between age 18 – 20, Spartan males had to pass a difficult test of fitness, military ability, and leadership skil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If they passed: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became a full citizen and a Spartan soldi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partan soldiers spent most of their lives with fellow soldi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ey ate, slept, and continued to train with the oth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f married, they did not live with their wives and famil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If they failed: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became a </a:t>
            </a:r>
            <a:r>
              <a:rPr b="1" i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perioikos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, a middle class memb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ere allowed to own property and have business dealings, but had no political rights and were not citizen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55851"/>
                </a:solidFill>
                <a:latin typeface="Tahoma"/>
              </a:rPr>
              <a:t>Gifts the ancient Greeks gave to the world: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rial by Ju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reek Myth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emocrac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ragedy and Come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at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 Olympic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partan girl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Sparta, girls went to school at age 6 or 7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y lived, slept, and trained in their sisterhood barrack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irls were taught wrestling, gymnastics, and combat skil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partans believed that strong women would produce strong bab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4149720" y="32353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525" y="8985"/>
                </a:moveTo>
                <a:lnTo>
                  <a:pt x="11525" y="89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14840" y="3668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319" y="10192"/>
                </a:moveTo>
                <a:lnTo>
                  <a:pt x="10319" y="1019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5400" y="36813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017" y="10224"/>
                </a:moveTo>
                <a:lnTo>
                  <a:pt x="11017" y="1022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8120" y="3681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716" y="10224"/>
                </a:moveTo>
                <a:lnTo>
                  <a:pt x="11716" y="1022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6920" y="3692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795" y="10255"/>
                </a:moveTo>
                <a:lnTo>
                  <a:pt x="12795" y="1025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t age 18, Spartan girls were also put to a test of fitness and skil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f she passed: she would be assigned a husband and was allowed to return hom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f she failed: she would lose her rights as a citizen and become a perioikos, a member of the middle clas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Sparta, citizen women enjoyed a great deal of freedo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Wedding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ancient Athens, wedding ceremonies began after dar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 veiled bride traveled from her home to the home of the groom while standing in a chario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During the wedding ceremony, the bride would eat an apple, or another piece of fruit, to show that food and other basic needs would now come from her husban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Spartan wedding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edding ceremonies were simp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fter a tussle, to prove his superior strength, the groom would toss his bride over his shoulder and carry her off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5851"/>
                </a:solidFill>
                <a:latin typeface="Tahoma"/>
              </a:rPr>
              <a:t>To be a citizen of a city-state: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referred to themselves as citizens of their individual city-stat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ach city-state, or </a:t>
            </a:r>
            <a:r>
              <a:rPr b="1" i="1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POLIS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, had its own personality, goals, laws, and custom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were very loyal to their city-sta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men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en ran the govern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pent a great deal of time away from ho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en not busy with government, they spent their time in fields, sailing, hunting, in manufacturing, or in tra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or fun, they enjoyed drinking parties, wrestling, horseback riding or the Olympic gam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women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ith the exception of Sparta, Greek women had very limited freedom outside the ho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the home, however, Greek women were in char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ost Greek households had slaves to do the cooking and clean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babie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ncient Greeks considered their children to be “youths” until age 3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en a child was born to a Greek family, the father would carry his child, in a ritual dance, around the househo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girl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ith the exception of Sparta, girls in Athens and all other city-states stayed home until they were marrie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ir job was to help their mother and to help in the fields, if necessa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55851"/>
                </a:solidFill>
                <a:uFillTx/>
                <a:latin typeface="Tahoma"/>
              </a:rPr>
              <a:t>Greek boys</a:t>
            </a:r>
            <a:endParaRPr b="0" lang="en-US" sz="4400" spc="-1" strike="noStrike">
              <a:solidFill>
                <a:srgbClr val="65585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n most city-states, very young boys stayed at home helping in the fields, sailing, and fish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t age 6 or 7, they went to schoo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6:07:07Z</dcterms:created>
  <dc:creator>anna.bettencourt</dc:creator>
  <dc:description/>
  <dc:language>en-US</dc:language>
  <cp:lastModifiedBy>Anna Bettencourt</cp:lastModifiedBy>
  <dcterms:modified xsi:type="dcterms:W3CDTF">2011-01-17T20:23:21Z</dcterms:modified>
  <cp:revision>6</cp:revision>
  <dc:subject/>
  <dc:title>Ancient Greek Life</dc:title>
</cp:coreProperties>
</file>